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4.png" ContentType="image/png"/>
  <Override PartName="/ppt/media/image3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2A6-EB71-4CA1-B359-9E12D649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299-5E89-4E02-AAC6-478343A9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E41-9A30-4FF5-B840-65090A31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17F-88B6-46A3-AB28-97863BFE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F17-2958-4596-BA1D-2D529AD8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44A-743D-4A0A-9B3F-3A8CA74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86B-6B2E-4175-B4C0-A1B7101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401-B94D-4245-A142-F8A8202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870-F528-4078-BE11-33214269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803-E75E-4887-B1CB-18967C9F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5DD-68F0-4E89-81C8-868EC37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550-F870-4D17-B1A5-64ABEC6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D8B-5216-46AF-A457-67094763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22240"/>
            <a:ext cx="7008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00080" y="800280"/>
            <a:ext cx="71438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1320" y="839880"/>
            <a:ext cx="69199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9000" y="822240"/>
            <a:ext cx="6964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22240"/>
            <a:ext cx="7008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766800"/>
            <a:ext cx="70088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82640"/>
            <a:ext cx="70088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744480"/>
            <a:ext cx="70088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088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11080"/>
            <a:ext cx="70088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9000" y="833400"/>
            <a:ext cx="696456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777960"/>
            <a:ext cx="7008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9000" y="793800"/>
            <a:ext cx="69645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2760" y="789120"/>
            <a:ext cx="69184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9000" y="800280"/>
            <a:ext cx="696456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2760" y="800280"/>
            <a:ext cx="69184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1320" y="795240"/>
            <a:ext cx="69199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9000" y="771480"/>
            <a:ext cx="69645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2760" y="828720"/>
            <a:ext cx="69184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088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9000" y="828720"/>
            <a:ext cx="69645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2760" y="822240"/>
            <a:ext cx="6918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5:39:04Z</dcterms:created>
  <dc:creator>BealSt</dc:creator>
  <dc:description/>
  <dc:language>en-US</dc:language>
  <cp:lastModifiedBy>BealSt</cp:lastModifiedBy>
  <dcterms:modified xsi:type="dcterms:W3CDTF">2007-01-08T16:07:31Z</dcterms:modified>
  <cp:revision>3</cp:revision>
  <dc:subject/>
  <dc:title>Slide 1</dc:title>
</cp:coreProperties>
</file>